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gif" ContentType="image/gif"/>
  <Override PartName="/ppt/media/image18.wmf" ContentType="image/x-wmf"/>
  <Override PartName="/ppt/media/image20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5.gif" ContentType="image/gif"/>
  <Override PartName="/ppt/media/image12.wmf" ContentType="image/x-wmf"/>
  <Override PartName="/ppt/media/breeze.wav" ContentType="audio/x-wav"/>
  <Override PartName="/ppt/media/image2.png" ContentType="image/png"/>
  <Override PartName="/ppt/media/image24.wmf" ContentType="image/x-wmf"/>
  <Override PartName="/ppt/media/image4.gif" ContentType="image/gif"/>
  <Override PartName="/ppt/media/image23.wmf" ContentType="image/x-wmf"/>
  <Override PartName="/ppt/media/image22.wmf" ContentType="image/x-wmf"/>
  <Override PartName="/ppt/media/image19.wmf" ContentType="image/x-wmf"/>
  <Override PartName="/ppt/media/image21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45A-968F-4B7A-8F12-DE341CC7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7D5-455F-47AF-B1AB-43EADDAC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2F3-30A0-422E-8D00-48D59F0E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EE9-0420-44BC-ABF2-950F9C53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85CA-5FEF-470A-89D9-72256427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6A1-FAC8-472C-A319-B4DDC4D3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CFB5-0F0A-4B2B-95CE-209FA984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6453-3300-4005-8961-0F62B255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F3E3-09F8-4CF0-8D9C-53DB4792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339B-F63B-480A-9DAB-BD15B4FF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B06B-F78A-4C38-A5BB-D36D106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82B-4469-478F-AC35-8D6256ED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DF4F-35FA-4E33-B78E-061070C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3743-663C-46C6-9EEB-8D575498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A70F-A335-4BB5-9D12-FB7E028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B871-43FB-4FA1-8775-004ABFDD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A893-492F-4799-BEFE-E8486C94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22D-2365-48F9-9BD7-21F7EA6C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792-3F86-4A03-AB17-90A756DA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18C-64CD-4A5E-B8C9-D8C334F7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9CC-A68C-497C-AF6A-FED76B5A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3B7-BB0E-408A-AD0D-AB37678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D30-5C4A-4968-9FE1-6812E08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92B-F001-4F2A-8B4C-5DD732E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4F9-53D4-4129-BAD9-CE2CABB440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D658-B92A-4E2C-BF08-00F6323FFC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eff1"/>
                </a:solidFill>
                <a:latin typeface="Arial Black"/>
              </a:rPr>
              <a:t>Pearl and Wagner:  Two Good Friends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Second Grade Reading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unique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Only one; one of a kind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31316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contraption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mething that is put together in a very odd way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4322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foolproof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 simple and safe that anyone can use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3033720" cy="334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daydream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When you are awake but you are thinking of pleasant things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571400" cy="2171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2066760" cy="28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projec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mething planned and then done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2652840" cy="26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scrap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tiny piece of something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2647800" cy="305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breeze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Vocabulary Word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robot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wad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trash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robo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A machine that is run by a computer.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773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52880" y="2133720"/>
            <a:ext cx="17859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442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wad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small, soft ball or chunk of something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229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840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trash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nything of no use or that is worn out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305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858000" y="3124080"/>
            <a:ext cx="1981080" cy="1955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" y="3048120"/>
            <a:ext cx="2147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809880" y="3352680"/>
            <a:ext cx="1562400" cy="180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04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42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7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electricity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kind of energy that makes light and heat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582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797280" y="2527200"/>
            <a:ext cx="1549440" cy="1803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2550960"/>
            <a:ext cx="2590920" cy="255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09480" y="3657600"/>
            <a:ext cx="2286000" cy="168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59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Amazing Word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construct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sidekick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unique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contraption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foolproof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daydream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project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scrap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construc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To build or put together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0773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114800" y="3124080"/>
            <a:ext cx="188928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086600" y="3581280"/>
            <a:ext cx="112716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09480" y="3276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76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sidekick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good friend or a partner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000680" y="385776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" y="2832120"/>
            <a:ext cx="2743200" cy="222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58000" y="2209680"/>
            <a:ext cx="1965240" cy="24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42:31Z</dcterms:created>
  <dc:creator>dyera</dc:creator>
  <dc:description/>
  <cp:keywords/>
  <dc:language>en-US</dc:language>
  <cp:lastModifiedBy>dyera</cp:lastModifiedBy>
  <dcterms:modified xsi:type="dcterms:W3CDTF">2007-11-05T18:39:33Z</dcterms:modified>
  <cp:revision>3</cp:revision>
  <dc:subject/>
  <dc:title>Pearl and Wagner:  Two Good Frie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